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B52-1BED-460D-B835-382FD5FC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42B-DF80-4CC2-9299-A40372B9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1994-F842-43C3-BB4A-00C07943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DD1-3217-49F9-B877-3314BB36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935C-53B1-4D7D-8DBE-C65D3AE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0F0-0CF4-423C-9A78-743A7244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4A8A-55FC-4B60-BE6A-F10C903E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20B4-C222-4349-9AEA-F80B2B3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BAA6-06C5-4C55-A84E-E0F2F480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9E99-C9D7-4EFE-890D-EF30C79F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1F0C-28F8-4462-B416-A8DA5F9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B47-EBC7-416C-9A1E-954CBCC0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86C1-1BDB-42F7-BDFA-0EA62B3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4551-0500-43F0-8B26-943AE833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E70-B5C6-4F15-AE7A-FA26D8BF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DE7F-DDDD-41E1-99F1-32CE5EBB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D5B-5574-4D0D-B655-7FDA5930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B9020-B807-496E-A6CE-D93CD1B2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3D5B4-1DB2-4BA8-996C-4A272D9A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ED40-DAF7-4360-B445-464C5EDF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8A007-C77E-4A4A-8A94-06F937C9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371C-5515-4738-9325-4D48650B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199-AE27-4057-9C3D-C9266D64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28704-86D1-4A70-A02C-5D4200C2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8F99-DF9A-4E20-8424-33D5C87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96E4A-E0CF-4391-9FFB-9234BDA5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982A2-D088-4A09-9DF3-DBB1E084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88BCF-EE1A-4CF3-A1CA-6B4CC3A3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E489-D68A-484E-836E-12F630C4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513D8-F8C2-419A-B177-7FAD4AA1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C5D7-0BBC-4951-9E23-1DFFFAB6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CBFD7-18B0-493E-B1EE-156159A1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F026-0451-4BA2-9BDE-B9E441F1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B91-5B93-464F-881E-FAA7829B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F4EF-7240-47A5-BA86-0E5CC2C5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DC8B-196E-4752-A64E-45BFBC0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A3D8-4222-4EDD-A06A-0CC564CB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ECDB-AA04-4FD6-8DFC-A1083731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C7F06-78F6-4BC6-AE1F-1A5A7DFA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3E88-798E-4ECC-A0E8-ABED5596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C19BD-D4DC-45DB-AEC7-B72CC2FA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BBA33-E8E3-440D-BF76-C8A746CF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A6FDA-7803-48E9-B4A5-5FF8EACC4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71CBF-EFEB-40B6-9277-7DBDDFBD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417-44CC-4F0E-9337-AFA3122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B301E-4B82-43AA-9D9F-817C39AF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FBEC-6D76-4599-BD70-2D3F7D3B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55FB-E1FD-464D-92B9-A5896FB5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5141-7DAC-492D-AA6C-74A3D9DD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6FEC3-FA4E-40E8-A31F-CC30C627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2D727-C1CF-49D2-8B16-4E03449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8444E-D939-4514-81F1-6C498A6E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D3754-80A8-49B3-8E42-053EDC3C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6DB0-2732-4865-9CAD-1190836F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5D4C0-8BC2-481D-9986-2FAAC6B8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1E0-14C9-4816-9BBB-D97EAC5D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04540-E830-407F-9A25-A525D746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E952-1CCE-45E7-8FC6-DBDE2B0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190-DD4B-4ED6-9A94-B44891D5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A3C-0523-409B-A558-5094F46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E07C-E727-4A65-B52D-50BEB80492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16C-AB0A-4FE3-9BDA-6C75C69F07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ABE6-B513-46CE-8A22-C837EA863A9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357-0A7E-4B50-86B0-CCB15DAF82E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64B8-B536-4A72-B723-91E041F831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10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 Trip Through Geologic Tim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9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s the Mesozoic Er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st the names of the 3 periods within the Cenozoic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st and explain the main events that took place during this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important developments in lif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10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s the Cenozoic Er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st the names of the 2 periods within the Cenozoic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the main events that took place during this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important developments in lif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fossils?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are they form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2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me and explain the 6 types of fossils that can be found in rock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3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fossil record and what does it provid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how paleontologists use fossils to build a picture of Earth’s past environment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es the fossil record provide clues to how our Earth has changed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4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difference between relative age and absolute ag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is the law of superposi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do scientists determine relative ages of rocks? Explain the various way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6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ow are fossils used to date rock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are index fossil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7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ke a timeline showing the dates of each era, labeled with the period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e example on pages 338-341 of your textbook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You do not need to include geologic events or development of life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Station 8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is the Paleozoic Er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st the names of the 6 periods within the Cenozoic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ain the main geologic events that took place during this era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dentify the important developments in lif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1:23:26Z</dcterms:created>
  <dc:creator>Falcon School District 49</dc:creator>
  <dc:description/>
  <dc:language>en-US</dc:language>
  <cp:lastModifiedBy>Falcon School District 49</cp:lastModifiedBy>
  <dcterms:modified xsi:type="dcterms:W3CDTF">2010-05-10T21:27:05Z</dcterms:modified>
  <cp:revision>1</cp:revision>
  <dc:subject/>
  <dc:title>A Trip Through Geologic Time</dc:title>
</cp:coreProperties>
</file>